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072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800"/>
            </a:b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1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рганска хемија 2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i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олекулске силе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изабил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3960" y="2147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зација неполарних једињења објашњава се постојањем дисперзионих сила која је условљена поларизабилношћу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молекули се могу поларизовати под утицајем спољашњег електричног 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диполни моменат који траје само док је присутно спољашње електрично поље пропорционалан је поларизаби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изабилност је карактеристична величина за сваки молекул и представља меру лакоће са којом се врши раздвајање позитивне и негативне шарже у молекулу под утицајем спољашњег електричног 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ндукованом поларизацијом деформишу се углавном молекулске орбитале и периферне атомске орбитале (померају се заједнички електронски парови и слободни електронски паро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ни се лаксе поларизују од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на, а посебно ако су у незасићеним коњугованим систем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индуктивне поларизације атома углавном се врши померање спољашњих, валенционих електрона, које језгро релативно слабо привл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изабилност значајна код атома алкалних метала, док халогени показују обрнуто понашање (теже се поларизују индукцијом од мета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између индекса преламања и поларизаби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а 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олекулске дисперзионе силе ових једињења су такође електростатичке природе и зависе од поларизаби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оне силе су по свом дејству обично слабије од привлачних интеракција типа дипол-ди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 дисперзионог типа су адитивног карактера, па је збор тих сила у молекулу пропорционалан броју додирних површина између молекула, који расте са повећањем молекулске тежине и са опадањем рачвања угљениковог н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324000" y="1916280"/>
          <a:ext cx="844056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44056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5"/>
          <p:cNvSpPr/>
          <p:nvPr/>
        </p:nvSpPr>
        <p:spPr>
          <a:xfrm>
            <a:off x="755640" y="3789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к. 36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 о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Т.т. -131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40360" y="3789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к. 28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 о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Т.т. -160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093080" y="3789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к. 9,5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 о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Т.т. -20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96840" y="5157720"/>
            <a:ext cx="90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е тачке топљења и тачке кључања не мењају на исти нач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од најважнијих међумолекулских интеракција, која има важну улогу коа фактор који условљава физичке особине органских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ов атом који је везан за један електронегативан атом ковалентном везом може ступити у накнадну асоцијацију са другим електронегативним ат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лна веза (водонични мост, протонска в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1403280" y="5229360"/>
          <a:ext cx="5694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229360"/>
                    <a:ext cx="5694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егативни атоми који образују водоничну везу имају слободне електронске парове, али је то не чини (кординационо) ковалентном везом, јер водоник не може примити више од два електрона у свој 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веза се објашњава специфичним електростатичким привлачењем супротно наелектрисаних крајева два ди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 крај дипола је увек водоников атом и веза се обично означава испрекиданим лин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у везу образују искључиво електронегативни елементи са малом атомском запрем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а веза ће бити стабилнија ако је привлачење између супротних крајева дипола јаче, на шта утич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личина парцијалне позитивне шарже на водонику и величина и ефикасност дејства парцијалне негативне шарже на другом атому (утицај електронеганивности ато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тојање између оба дипола (утицај атомске запрем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умпор обично не учествује у формирању водоничне ве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олекулска водонич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молекулске асоцијације који се јавља код многих једињења (воде, алкохола, амина, карбоксилних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асоцијације ова једињења имају повећану 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‟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у тежинуˮ због чега показују више тачке кључања од очекива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је растворљивост у води и поларним растварачима-раскида се једна и ствара се нова водонична веза са раствара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и секундарни амини су асосовани, али у мањој мери од воде и алкохола, јер азот ствара слабије водоничне везе него кисео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и амини нису асосовани, јер не садрже водоникове ат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rcRect l="0" t="-12" r="39" b="0"/>
          <a:stretch/>
        </p:blipFill>
        <p:spPr>
          <a:xfrm>
            <a:off x="1835280" y="3213000"/>
            <a:ext cx="496872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лне киселине образују стабилне интермолекулске водоничне везе, најчешће асосоване у цикличне ди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билност овог типа асоцијације указује да разблажени и концентровани раствори карбоксилних киселина у неполарним органским растварачима садрже цикличне димерн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у интермолекулске водоничне везе карбоксилних киселина јаче него код алкох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5184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 које се јављају између валенционо засићених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ог порекла, али много слабије од од сила које доводе до формирања праве хемијск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ликој мери утичу на физичке особине једињења које могу имати утицај на реакциону способност органских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водоников атом из хлороформа учествује у стварању слабих интермолекулских водоничних ве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024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оцијација алкохола, карбоксилних киселина и амина са водом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 интермолекулске водоничне везе са молекули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631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а водонич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која се формира између различитих делова једног истог молекула, када се у молекулу групе које формирају водоничну везу нађу у повољној просторној орјент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изација је процес стварања прстенасте структуре између две групе у једном молекулу преко водоничн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а водонична веза се јавља код великог броја 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упсттитуисаних бензенових деривата, као и код ароматичних, ацикличних и алицикличних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изација утиче на физичке особине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3" descr=""/>
          <p:cNvPicPr/>
          <p:nvPr/>
        </p:nvPicPr>
        <p:blipFill>
          <a:blip r:embed="rId1"/>
          <a:srcRect l="7004" t="8637" r="7248" b="0"/>
          <a:stretch/>
        </p:blipFill>
        <p:spPr>
          <a:xfrm>
            <a:off x="971640" y="1557360"/>
            <a:ext cx="7056360" cy="2278080"/>
          </a:xfrm>
          <a:prstGeom prst="rect">
            <a:avLst/>
          </a:prstGeom>
          <a:ln w="0">
            <a:noFill/>
          </a:ln>
        </p:spPr>
      </p:pic>
      <p:sp>
        <p:nvSpPr>
          <p:cNvPr id="85" name="Right Brace 4"/>
          <p:cNvSpPr/>
          <p:nvPr/>
        </p:nvSpPr>
        <p:spPr>
          <a:xfrm rot="5400000">
            <a:off x="1402920" y="3627360"/>
            <a:ext cx="576360" cy="1008360"/>
          </a:xfrm>
          <a:custGeom>
            <a:avLst/>
            <a:gdLst>
              <a:gd name="textAreaLeft" fmla="*/ 0 w 576360"/>
              <a:gd name="textAreaRight" fmla="*/ 208080 w 576360"/>
              <a:gd name="textAreaTop" fmla="*/ 14760 h 1008360"/>
              <a:gd name="textAreaBottom" fmla="*/ 9936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5"/>
                  <a:pt x="10800" y="1029"/>
                </a:cubicBezTo>
                <a:lnTo>
                  <a:pt x="10800" y="9771"/>
                </a:lnTo>
                <a:cubicBezTo>
                  <a:pt x="10800" y="10286"/>
                  <a:pt x="16200" y="10800"/>
                  <a:pt x="21600" y="10800"/>
                </a:cubicBezTo>
                <a:cubicBezTo>
                  <a:pt x="16200" y="10800"/>
                  <a:pt x="10800" y="11315"/>
                  <a:pt x="10800" y="11829"/>
                </a:cubicBezTo>
                <a:lnTo>
                  <a:pt x="10800" y="20571"/>
                </a:lnTo>
                <a:cubicBezTo>
                  <a:pt x="10800" y="2108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Brace 5"/>
          <p:cNvSpPr/>
          <p:nvPr/>
        </p:nvSpPr>
        <p:spPr>
          <a:xfrm rot="5400000">
            <a:off x="5615280" y="2224440"/>
            <a:ext cx="576360" cy="3816360"/>
          </a:xfrm>
          <a:custGeom>
            <a:avLst/>
            <a:gdLst>
              <a:gd name="textAreaLeft" fmla="*/ 0 w 576360"/>
              <a:gd name="textAreaRight" fmla="*/ 208080 w 576360"/>
              <a:gd name="textAreaTop" fmla="*/ 14760 h 3816360"/>
              <a:gd name="textAreaBottom" fmla="*/ 38016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16200" y="10800"/>
                  <a:pt x="21600" y="10800"/>
                </a:cubicBezTo>
                <a:cubicBezTo>
                  <a:pt x="162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684360" y="44258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а водоничн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211640" y="44578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су само интермолекулска водоничн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699480" y="5805360"/>
            <a:ext cx="53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ово утиче на физичке особ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изација преко интрамолекулских водоничних ваза има за последицу и извесну промену у хемијским особинама једињења, јер су групе које учествују у формирању водоничне везе инертн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табилније су интрамолекулске водоничне везе које обухватају два кисеоникова атома или један кисеоников и један азотов 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е водоничне везе су најстабилније када граде планарни шесточлани прстен са две коњуговане двогуб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5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4059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68360" y="5445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г од наведених једињења се јавља најстабилнија интрамолекулска водонична веза, а код ког најмање стабилна? Заш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молекулски комплек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адицијом две врсте молекула у одређеном стехеометријском одн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 су нестабилни и могу се лако разложити на полазне компен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 комплекси су између простих адиционих једињења и некласичних молекулск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различите молекулске врсте су асосоване преко интермолекулских водоничних веза (хлороформ-аце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 типу припадају и неки значајни фармаколошк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-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си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1873 је постулирао постојање општих привлачних сила између свих молекула и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је утврђено да ове силе зависе углавном од два фак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манентне поларизације вез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аризабилности електронских парова (в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ење између дипо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ковалентне везе је последица различите електронегативности атома који чине ве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и електронски пар је ближи електронегативнијем ат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е везе представљају перманентне електричне диполове (момент везе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молекули с поларним везама конституционо несиметрични, биће у целини поларни (перманентрни молекулски диполни моменат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 крај дипола једног молекула у близини негативног краја дру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4"/>
          <p:cNvCxnSpPr/>
          <p:nvPr/>
        </p:nvCxnSpPr>
        <p:spPr>
          <a:xfrm>
            <a:off x="5508720" y="573228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састављеном од великог броја молекула увек превлађују привлачне орјентације (1) над репулзивним орјентацијам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187280" y="2637000"/>
          <a:ext cx="676944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637000"/>
                    <a:ext cx="676944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ење поларних молекула је ефикасно само на врло кратим растојањ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ење између диполова расте са повећањем диполних момената, а опада са повишењем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ишена температура убрзава термичко кретање молекула што смањује могућност молекула да заузимају привлачне орјен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на асоцијација поларних једињења доводи до више тачке топљења и кључања, као и до веће топлоте испаравања, него неполарна једињења приближно сличне молекулске ма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е супстанце се боље растварају у поларним растварач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који садрже поларне везе, али су због симетрије у целини неполарни могу имати диполне интеракције које обухватају само делове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0" t="3626" r="1815" b="0"/>
          <a:stretch/>
        </p:blipFill>
        <p:spPr>
          <a:xfrm>
            <a:off x="287280" y="2637000"/>
            <a:ext cx="856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ење између јона и дип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поларних молекула и јонова јавља се привлачно дејство (јон-дип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гативан јон привлачи позитиван крај поларног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зитиван јон привлачи негативан крај ди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а сила овог типа је јача од интеракције између два перманентна дипола и делује на већем растој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ове интеракције је растворљивост чврстих јонских једињења у води и другим поларним растварачима (хидратација, солват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јон-дипол привлачења на солватацију утиче 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пол-дипол; јон-индуковани дипол; перманентни дипол-индуковани ди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цијална или потпуна кординација јонова са поларним молекулима раствар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нична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na</cp:lastModifiedBy>
  <dcterms:modified xsi:type="dcterms:W3CDTF">2016-09-06T06:34:04Z</dcterms:modified>
  <cp:revision>242</cp:revision>
  <dc:subject/>
  <dc:title>Slide 1</dc:title>
</cp:coreProperties>
</file>